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696-832A-48DF-B004-A7BE8CA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272-810A-4065-83BC-78FF01B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33C-95CD-4203-A4F6-B198D80D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C2D-D957-45A7-96F9-B9E280EF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FB24-4611-4D5E-990C-35DD1D8D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8D4-E8CA-4EB1-9868-E01C6BBE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921-69F0-4036-9458-18F17CB9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1AF3-6CBF-4FE3-AD02-7DDD3F4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132-F104-4AF3-99FC-7CFD78D9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281-C0E1-449D-9F3A-55657D2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CE5F-C9ED-41DE-AA7C-43AD074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C49-206A-4A58-81FF-48E58D26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49F4-A842-47CC-83A8-7F187CF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3E20-1DC6-46AA-9AF0-729FD4F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12C-F25B-4AB9-A11D-47D4B741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AE79-7A6C-465E-B19F-69A55790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1F7-0E43-4C56-83C6-3086100D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60C-F83B-4E64-B7F4-CA0E4024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F1B-A9AD-47A4-B4B3-C48C34D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929-EC4E-4EA9-BB8C-E55A73C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8EB-9407-43E5-B0D3-5921F09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0CA-4617-420D-A0EE-65ED10A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BEC-51F6-424B-BA01-095BABB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A36-267D-47B9-92BB-E52A5F4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F41-DC38-460D-A361-A21DE08FBD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716-FDD3-48D9-891B-08D27B116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ИРАЊЕ ЉУДСКИХ РЕСУРС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за података о запосленима (инвентар талената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стопе флукту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па флулту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број запослених који напушта организацију / просечан укупан број запослених у организациј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екс стаби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Марковљев мето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премешт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сукцеције менаџ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Графикон сукцесије менаџер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екс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ализа тржишта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нуде по занимањима и квалификац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с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графска диспер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је на тржишту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ности за преквалифик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склађивање понуде и траж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тернативни исх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внот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планир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дименз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потребна вредност планова људских рес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едвиђању траж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одређивању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ојектовању стопе флуктуације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цес антиципирањ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угорочне понуде и тражње за људским ресурсима у релативно променљивим условима у организацији и ван ње, као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јачање програ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зајнираних тако да се задовоље организационе потребе за знањ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ширем смислу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инисање планова а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ре за 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ормулисање интегративног пл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лан практичног спровођења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буџет зарада и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изација коришћења људских ресурса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ција људских ресурса и бизнис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апређење процеса стратегијског управљањ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форма за преговоре са синдика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лементи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ск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осио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цеса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ку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грега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дивидуал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купљање података о окруж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кс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слови у привреди и привредној гра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хнолог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нкурен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жиште рада и пратећи зако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Људски ресурс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руктура и процес ра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им послова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л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валуација и кориговање п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(субјективни)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до на г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го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фи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хника номиналн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 (математички и статистич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цио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/П ра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ва учења и индекс прогр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џ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енске серија (тренд ана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шеструка регре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неарно програм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30Z</dcterms:modified>
  <cp:revision>140</cp:revision>
  <dc:subject/>
  <dc:title>Soft and Hard Skills Development: A Current Situation in Serbian Companies</dc:title>
</cp:coreProperties>
</file>